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88B1-F56E-4FE7-8B1D-34BCA75E9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1B67-73A4-4A70-B3B3-F4DC79F1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6E34-659A-486C-BB8B-75B1D076E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941C-00A5-4BA3-AA24-9D1DA4AE4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BAC9-70C7-4D42-98D3-BCFC770F1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4276-62A6-450A-829B-7730BB6F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5705-6544-417A-94D7-515738B7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6F8E-07C4-401D-8729-7C00E1D4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F82F-1CE9-48E8-8584-04DF4F45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113D-D1F3-46FE-BE8E-8B41E818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8144-55C9-4FDF-BE5F-A9243EC0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635D-3914-4A73-8A75-DDFA7C3C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7C0E-82D9-4526-AB3C-89A087EE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EF9E-B609-433A-9CCB-F673CEBB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0A5E-C784-4BE6-A5EA-12C591B9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B409-DA56-495A-BB88-B02EC232F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3671-43EB-4D70-9F6D-83C29CF13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21A8-5AA0-4AFE-BFA1-B9D01A5C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E01E-F840-41C0-B570-FF328E1D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58DD-E91C-4608-8AD2-8B661F1F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EEE1-557F-485F-9B4E-8B97D521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7CED-5CDC-420D-A1BC-F0F7A318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8F06-752B-4D3B-AA5E-43F1CED9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8052-FDED-41ED-A6C4-559F0B9B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4DEC-01CB-4471-AA0D-F84E4F7567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C10C-01AE-4FF1-9595-BB3D7FC53E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морагијске грозниц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Audio 1" descr=""/>
          <p:cNvPicPr/>
          <p:nvPr/>
        </p:nvPicPr>
        <p:blipFill>
          <a:blip r:embed="rId1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морагијска грозница са бубрежним синдромом (ХГСБС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рочници су: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antaan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ou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brav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(Београд) и </a:t>
            </a:r>
            <a:r>
              <a:rPr b="0" i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umal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ирус – породица </a:t>
            </a:r>
            <a:r>
              <a:rPr b="0" i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nyaviri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угоисточна Азија (Кина), источна Европа, Скандинав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родни резервоари инфекције су глодари (мишеви, пацов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спираторни пут је најчешћи начин трансмисије вируса на чо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иментарни и директан пут заражавања су ређ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кубација се креће од 7-36 д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Audio 6" descr=""/>
          <p:cNvPicPr/>
          <p:nvPr/>
        </p:nvPicPr>
        <p:blipFill>
          <a:blip r:embed="rId7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атогенеза ХГСБ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 доспева у крвоток где се моше детектовати у току фебрилне фаз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ва репликација вируса се дешава у епителним ћелијама слузница а потом у ендотелу крвних суд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ома брзо након почетка болести могу се наћи 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gM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gG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антитела у високом тит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лази до ослобађања цитокина 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, Т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алфа интерферон г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скуларна дисфункција (смањење периферене васкуларне резистенције и повећање пропустљивост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поволемијски шок, ДИК, некроза тубу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Audio 3" descr=""/>
          <p:cNvPicPr/>
          <p:nvPr/>
        </p:nvPicPr>
        <p:blipFill>
          <a:blip r:embed="rId7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а сли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ебрилна ф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потензивна ф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лигуријска ф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уријска ф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овалесцентна ф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Audio 6" descr=""/>
          <p:cNvPicPr/>
          <p:nvPr/>
        </p:nvPicPr>
        <p:blipFill>
          <a:blip r:embed="rId6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линичка слика ХГСБ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ва фаза (фебрилна фаза) карактерише се наглим почетком високе темперетуре праћене дрхтавицом, фотофобијом, смањењем оштрине вида и јаким боловима у крстима, симптомима трахеобронхитис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140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им прегледом се налази хиперемија лица која се шири на предео врата, горњег дела грудног коша и бутин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140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њекција коњунктива, петехије на непцу и аксиларној регији, као периорбитални едем су од велике помоћи за рано постављање дијагнозе у ендемским подручјим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140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лативна брадикардиј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Audio 1" descr=""/>
          <p:cNvPicPr/>
          <p:nvPr/>
        </p:nvPicPr>
        <p:blipFill>
          <a:blip r:embed="rId5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Клиничка слика ХГСБ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Хипотензивна фаза траје од неколико до 48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 и карактерише се падом крвног притиска и понекад развојем шок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Релативна брадикардија се смењује са тахикардијо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Хематокрит расте, настаје леукоцитоза и тромбоцитопениј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лигуријска фаза траје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3-10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дана, долази до поремећаја протока крви бубрега због локалних и системских поремећаја у циркулацији – тубуларна некроза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Бубрежна дисфункција, што се манифестује хематуријом, протеинуријом,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лигуријом и азотемијо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Audio 3" descr=""/>
          <p:cNvPicPr/>
          <p:nvPr/>
        </p:nvPicPr>
        <p:blipFill>
          <a:blip r:embed="rId6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линичка слика ХГСБ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урична фаза представља почетак клиничког оздрављења и брзог побољшања бубрежне финкције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актерише се полиуријом, јаком жеђи и нормализацијом притиска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онвалесцентна фаза - траје 4-12 недеља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оравак је већином потпун, сем код оних где су оштећења бубрега била знатн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Audio 2" descr=""/>
          <p:cNvPicPr/>
          <p:nvPr/>
        </p:nvPicPr>
        <p:blipFill>
          <a:blip r:embed="rId5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рапија ХГСБ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вирусна терапија – РИБАВИРИН (доводи до прекидања виремије, скраћења трајања болести, смањења степена хеморагија и бубрежних оштећења)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140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поративна терапија (кристалоидни раствори, хумани серумски албумини и вазопресорни лекови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140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ћење крвног притиска, диурезе, броја тромбоцита, као и вредности уреје, креатинина и електролита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40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птна дијализ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Audio 5" descr=""/>
          <p:cNvPicPr/>
          <p:nvPr/>
        </p:nvPicPr>
        <p:blipFill>
          <a:blip r:embed="rId5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АНТАВИРУСНИ ПУЛМОНАЛНИ СИНДРО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2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ромални стадијум траје 3-4 дана</a:t>
            </a:r>
            <a:r>
              <a:rPr b="0" lang="sr-R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диопулмонална фаза</a:t>
            </a:r>
            <a:r>
              <a:rPr b="0" lang="sr-R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sr-R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хикардија, тахипноја, хипоксемија и радиолошки знаци плућног едема  и респираторна инсуфицијенција</a:t>
            </a:r>
            <a:r>
              <a:rPr b="0" lang="sr-R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а током првих неколико сати- оксигенотерапија, интубација и вештачка вентилација</a:t>
            </a:r>
            <a:r>
              <a:rPr b="0" lang="sr-R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потензија и шок- инфузиона терапија и пресорни лекови</a:t>
            </a:r>
            <a:r>
              <a:rPr b="0" lang="sr-R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Audio 3" descr=""/>
          <p:cNvPicPr/>
          <p:nvPr/>
        </p:nvPicPr>
        <p:blipFill>
          <a:blip r:embed="rId5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5878440" cy="4896000"/>
          </a:xfrm>
          <a:prstGeom prst="rect">
            <a:avLst/>
          </a:prstGeom>
          <a:ln w="0">
            <a:noFill/>
          </a:ln>
        </p:spPr>
      </p:pic>
      <p:pic>
        <p:nvPicPr>
          <p:cNvPr id="213" name="Audio 2" descr=""/>
          <p:cNvPicPr/>
          <p:nvPr/>
        </p:nvPicPr>
        <p:blipFill>
          <a:blip r:embed="rId2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7128000" cy="4608720"/>
          </a:xfrm>
          <a:prstGeom prst="rect">
            <a:avLst/>
          </a:prstGeom>
          <a:ln w="0">
            <a:noFill/>
          </a:ln>
        </p:spPr>
      </p:pic>
      <p:pic>
        <p:nvPicPr>
          <p:cNvPr id="215" name="Audio 1" descr=""/>
          <p:cNvPicPr/>
          <p:nvPr/>
        </p:nvPicPr>
        <p:blipFill>
          <a:blip r:embed="rId2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362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не хеморагијке грознице (ВХГ) представљају групу разноврсних болести које карактерише фебрилност и појава хеморагијског синдрома који је одраз генерализованог  оштећења крвних суд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vivirusi (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ута грозница, Денг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irovirus (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го-кримска грозниц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tan virus (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орагијска грозница са бубрежним синдромом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navirus (Lassa-groznic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ovirusi (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бола и Марбуршка грозниц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Audio 6" descr=""/>
          <p:cNvPicPr/>
          <p:nvPr/>
        </p:nvPicPr>
        <p:blipFill>
          <a:blip r:embed="rId7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њунктивалне суфузиј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4" descr="754eme75431a"/>
          <p:cNvPicPr/>
          <p:nvPr/>
        </p:nvPicPr>
        <p:blipFill>
          <a:blip r:embed="rId1"/>
          <a:stretch/>
        </p:blipFill>
        <p:spPr>
          <a:xfrm>
            <a:off x="1835280" y="1773360"/>
            <a:ext cx="5761080" cy="4319640"/>
          </a:xfrm>
          <a:prstGeom prst="rect">
            <a:avLst/>
          </a:prstGeom>
          <a:ln w="0">
            <a:noFill/>
          </a:ln>
        </p:spPr>
      </p:pic>
      <p:pic>
        <p:nvPicPr>
          <p:cNvPr id="218" name="Audio 1" descr=""/>
          <p:cNvPicPr/>
          <p:nvPr/>
        </p:nvPicPr>
        <p:blipFill>
          <a:blip r:embed="rId2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иперемија лица и вратног де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3" descr="75375330-14"/>
          <p:cNvPicPr/>
          <p:nvPr/>
        </p:nvPicPr>
        <p:blipFill>
          <a:blip r:embed="rId1"/>
          <a:stretch/>
        </p:blipFill>
        <p:spPr>
          <a:xfrm>
            <a:off x="380880" y="1219320"/>
            <a:ext cx="8458200" cy="5410080"/>
          </a:xfrm>
          <a:prstGeom prst="rect">
            <a:avLst/>
          </a:prstGeom>
          <a:ln w="0">
            <a:noFill/>
          </a:ln>
        </p:spPr>
      </p:pic>
      <p:pic>
        <p:nvPicPr>
          <p:cNvPr id="221" name="Audio 6" descr=""/>
          <p:cNvPicPr/>
          <p:nvPr/>
        </p:nvPicPr>
        <p:blipFill>
          <a:blip r:embed="rId2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ИРУСНЕ ХЕМОРАГИЈСКЕ ГРОЗНИЦ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ликују се разноврсношћу клиничких манифестација, спорадичним и сезонским јављањ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шка клиничка слика са високим леталитетом сврстава их у нарочито опасне инфекције а могућност интерхуманог преношења појединих ВХГ из аутохтоних жаришта на друге територије налаже спровођење посебних превентивних мер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Audio 10" descr=""/>
          <p:cNvPicPr/>
          <p:nvPr/>
        </p:nvPicPr>
        <p:blipFill>
          <a:blip r:embed="rId3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09840"/>
            <a:ext cx="8229600" cy="46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рочник је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irovir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оји припада породици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nyavirid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фрика, Средњи исток, западна Кина, Балкан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пељи имају значајну улогу у одржавању и преношењу вирус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авља се сезонски (пролеће–јесен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ћа је и интерхумана трансмисија вируса-   контакт са инфицираном крвљу, секретима и екскретима оболели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кубација 2-12 дана (3-6 дан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имска-Конго хеморагијск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розница (ККХ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Audio 5" descr=""/>
          <p:cNvPicPr/>
          <p:nvPr/>
        </p:nvPicPr>
        <p:blipFill>
          <a:blip r:embed="rId7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имска-Конго хеморагијск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розница (ККХ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он продора вируса у организам настаје виремија и хематогена дисеминациј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пликација вируса се одвија у ендотелу капилара, што доводи до фокалне некрозе, сепарације чврстих спојева и њиховог одвајања од базалне мембран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лази до стварања имуних комплекса који доводе до оштећења капилара и повећане пропустљивост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ећана пропустљивост доводи до екстравазације воде, електролита и плазм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о крајњи исход ових патофизиолошких механизама настаје дисеминована интраваскуларна коагулопатија, хеморагије и шо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Audio 3" descr=""/>
          <p:cNvPicPr/>
          <p:nvPr/>
        </p:nvPicPr>
        <p:blipFill>
          <a:blip r:embed="rId6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3840" y="25992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линичка слика ККХ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хеморагични стадијум - симптоми и знаци токсично-инфективног синдрома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 почиње нагло високом темперетуром, интензивном главобољом, боловима у мишићима слабинске регије, боловима у зглобовима, боловима у абдомену, муком и повраћањем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гледом се уочава хиперемија ждрела, коњунктива, енантем букалне слузнице као и хиперемија лица, врата и горњег дела грудног коша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Audio 2" descr=""/>
          <p:cNvPicPr/>
          <p:nvPr/>
        </p:nvPicPr>
        <p:blipFill>
          <a:blip r:embed="rId4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линичка слика ККХ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орагични синдром- настаје између 3 и 5-ог дан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ављају се петехије и хематоми, е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мозе или хеморагични раш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даљем току настају крварења на слузницама усне дупље (петехије на ждрелу и букалној слузници, крварење из десни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ци унутрашњег крварења (мелена, хемоптизије, хемоптое, метрорагија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оспленомегалија, леукопенија и тромбоцитопенија, некроза хепатоцита, хиповолемијски шок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онвалесцентни пери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Audio 2" descr=""/>
          <p:cNvPicPr/>
          <p:nvPr/>
        </p:nvPicPr>
        <p:blipFill>
          <a:blip r:embed="rId7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јагноза ККХГ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олација вируса на култури ткив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ређивање специфичних антитела у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gM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лас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7- 10 дана) 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ли тест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T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твороструки пораст титра антитела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gG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ласе у парном серум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 тешко оболелих због масивне виремије и супресије функције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лимфоцита некада се антитела не могу детектоват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Audio 4" descr=""/>
          <p:cNvPicPr/>
          <p:nvPr/>
        </p:nvPicPr>
        <p:blipFill>
          <a:blip r:embed="rId5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рапија ККХ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екција течности и електроли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нсфузије пуне крви, свеже плазме и тромбоци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 развоја шока дати кортикостероид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вирусна терапија –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бавирин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.v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 подлеже обавезној пријави у случају сумње, оболевања или смртног исх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Audio 2" descr=""/>
          <p:cNvPicPr/>
          <p:nvPr/>
        </p:nvPicPr>
        <p:blipFill>
          <a:blip r:embed="rId6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3:22:17Z</dcterms:created>
  <dc:creator>Info</dc:creator>
  <dc:description/>
  <dc:language>en-US</dc:language>
  <cp:lastModifiedBy>Biljana</cp:lastModifiedBy>
  <dcterms:modified xsi:type="dcterms:W3CDTF">2020-09-19T15:51:21Z</dcterms:modified>
  <cp:revision>47</cp:revision>
  <dc:subject/>
  <dc:title>Streptokokne infekcije</dc:title>
</cp:coreProperties>
</file>