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E8C-B9D7-42F6-9CD8-EB5037AD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BDD-4CD9-4828-BDDE-724811F5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6AC-6738-44C8-8B61-6C394735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43A-1E84-46FC-9177-7544A14F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D9D6-4D9B-4B0F-A1B4-B1098703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30A2-232C-4F46-8CF0-F2A6031D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168F-BBE5-45DE-BC61-93FE559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6C54-1110-474F-8339-03A2AFD9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2124-00B3-4411-8FD2-4DC65B8A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6C0E-4846-4C97-AE57-7F4EA2C1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53E6-ED7B-4B7D-99BB-E38AA221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C82-E8C0-4440-A9ED-D68A4CCD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3B7A-22C4-45BD-B469-9118FDC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6772-A7BC-4E25-A47C-4D9A8F57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8512-3A1C-4AC4-BADD-1623B0D3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9981-4FDC-4694-9747-5566B86F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FA92-9180-405A-86B5-DD8BCA2A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EE2-689D-4E5C-9CA0-26A38E09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D57-8665-4EF5-83C4-5000AF26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B20-D17C-43D1-A641-D180DAD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F3F-117D-4FE5-9E48-C94770A2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BBC-34B0-49E9-BF22-6DA501F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5A3-2156-43AF-958D-3B007CB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DC4-EAC2-41D6-A6C0-8A584BFE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2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7260-FA61-4F5A-97C7-23B556CC6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9690-3919-4181-9C39-21582074D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Синдром сепсе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с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шири појам од септикемије и означава  системски инфламаторни одговор изазван микроорганизмима, без обзира да ли се они разносе крвљу или остају у локалном жариш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ic Inflamatory Response Syndrome (SIRS):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унско-метаболичка реакција организма на различите аген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ИРС се манифестује са најмање 2 или више  од следећих знакова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&gt;38 степени или &lt;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чана фреквенца &gt;90 у мину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спираторна фреквенца &gt;20 удаха  у минути или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2&lt;3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H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ој леукоцита &gt; 12,000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&lt; 4,000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ли  &gt;10% младих, незрел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- системски одговор на инфекциј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РС + инфекц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шка сепса, један или више знакова дисфукције органа, насталих због хипоперфузије или хипотензије, као што су метаболичка ацидоза, поремећај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ња свести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лигурија или респираторни дистрес синдр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тични шок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која доводи до хипотензије и поред адекватне надокнаде тености, што доводи до хипоперфузије органа и последичних стања, метаболичка ацидоза, олигурија или поремећај стања све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Централни патофиз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поремећај у шоку је </a:t>
            </a: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нерализовани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порем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ћај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ерфузије вeликог броја ткива у организ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мањ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ткивне пeрфузије обично је праћено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смање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њ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eм арте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ијског крвног прит</a:t>
            </a: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с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ФАЗЕ ШО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ФАЗA КОМПЕ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З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В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Г ШОК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ранa фaзa у којoj се 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тив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aју компензатo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 ф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механиз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кој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тежe да врa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функције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из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е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ир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ФАЗA ДЕКОМПEН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В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Г (ПРО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ГР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ЕСИВНOГ) ШО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компензатo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aкције слаб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д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з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падa aрт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јског п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 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не пeрфузиј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сле чeга д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з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ев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б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лн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х пром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 у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гaниз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с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84096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СТИМУЛАЦИЈА СИМПАТИКУС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 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арорецептор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аортокаротидној региј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а у кожи, бубрезима, спланхичној регији </a:t>
            </a:r>
            <a:r>
              <a:rPr b="1" lang="sr-Latn-C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повећање волумена крви за виталне регионе тела – мозак и срц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ВЕНОКОНСТРИКЦИЈА </a:t>
            </a:r>
            <a:r>
              <a:rPr b="1" lang="sr-Latn-C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повећање прилива крви у срц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ПОВЕЋАЊЕ ЕФИКАСНОСТИ СРЦА КАО ПУМПЕ:</a:t>
            </a:r>
            <a:r>
              <a:rPr b="1" lang="sr-R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контрактилности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фреквенције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надражљивости миокарда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по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ве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ћање тонуса миокард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2. АКТИВАЦИЈА СИСТЕМА РЕНИН-АНГИОТЕНЗ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цептор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 јукстагломеруларном апарату бубре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page22"/>
          <p:cNvPicPr/>
          <p:nvPr/>
        </p:nvPicPr>
        <p:blipFill>
          <a:blip r:embed="rId1"/>
          <a:stretch/>
        </p:blipFill>
        <p:spPr>
          <a:xfrm>
            <a:off x="2286000" y="2590920"/>
            <a:ext cx="417528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3. ПОЈАЧАНО ЛУЧЕЊЕ “ХОРМОНА СТРЕСА” ИЗ НАДБУБРЕЖНИХ ЖЛЕЗ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КАТЕХОЛАМ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мају ист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позитивно дејство на срц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доводе д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липолизе и гликогенолиз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 организ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ГЛУКОКОРТИКОИДИ И МИНЕРАЛОКОРТИКОИДИ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стимулишу катаболизам гликогена и протеина, ретенцију Nа</a:t>
            </a:r>
            <a:r>
              <a:rPr b="1" lang="sr-Latn-C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и воде у бубрез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ви набројани механизми имају за циљ да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повећају волумен циркулишуће течности и прилив крви у срц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уз истовремено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повећање контрактилне функције срц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што доводи до одржавања минутног волумена и подизања артеријске тензије (корекције почетног стимулус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Фактори који утичу на повећану инциденцу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таросна до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Хроничне болести (цироза јетре, дијабетес, РИФ 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гресивна онколошка хемиотерапија и радиотерап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муносупресивна терапија код трансплантација органа и системских болес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већана употреба хируршких протеза и катетер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ХИВ инфекц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адекватна употреба антибиотика и резистентни сојеви бактер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еукозе, агранулоцит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19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а као последица симпатич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атехоламинске стимулације у компензованој фази шока, остварује се на ниво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микроциркула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 контракцијом прекапиларних и посткапиларних сфинк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capillary"/>
          <p:cNvPicPr/>
          <p:nvPr/>
        </p:nvPicPr>
        <p:blipFill>
          <a:blip r:embed="rId1"/>
          <a:stretch/>
        </p:blipFill>
        <p:spPr>
          <a:xfrm>
            <a:off x="2484360" y="350532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206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апиларна вазоконстрикција доводи до повећања периферног отпора у крвно-судовном систему, што доприноси подизању артеријске тенз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сим тога, смањује се хидростатски притисак у капиларима и долази до помака течности из интерстицијума у капиларе и на тај начин се повећава запремина течности у циркулациј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4" descr="Illu_capillary_microcirculation"/>
          <p:cNvPicPr/>
          <p:nvPr/>
        </p:nvPicPr>
        <p:blipFill>
          <a:blip r:embed="rId1"/>
          <a:stretch/>
        </p:blipFill>
        <p:spPr>
          <a:xfrm>
            <a:off x="274320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209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Е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пиларна вазоконстрикциј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погоршав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схемиј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ткива. Исхемија и хипоксија се одражавају на енергетски метаболизам и стање ендотелних ћелија самих капилара. Долази до попуштања артериоларних и прекапиларних сфинтера и вазодилатације. Крв почиње да се задржава у микроциркулацији, што доводи до несразмера између волумена циркулишуће крви и повећане запремине циркулаторног система. Последица тога је релативна хиповолемиј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Због вазодилатације и повећања количине крв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капиларима,  повећава се хидростатски притисак у њима и долази до филтрације течности из капилара у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терстицијум, што додатно погоршава хиповолемију и хипотензи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Audio 7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Е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уготрајна исхемија доводи до оштећења ендотелних ћелија капилара и парализе прекапиларних и посткапиларних сфинктера, када престају да реагују на неурохуморалне стимулусе вазомоторног цен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елика количина крви се задржава у широко дилатираном капиларном базену, угрожавајући енергетске и метаболичке процесе у свим ћелијама у организ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енерализована хипоперфузија  се одражава и на ћелије срца. Смањена продукција енергије у њима, слаби и њихову контрактилну функцију, па срце ослабљено пумпа ионако смањену количину крви у системску циркулацију, што додатно погоршава перфузију ткива и доводи до хипоксијског оштећења ћелија (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irculus vitiosu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ipovolemijski"/>
          <p:cNvPicPr/>
          <p:nvPr/>
        </p:nvPicPr>
        <p:blipFill>
          <a:blip r:embed="rId1"/>
          <a:stretch/>
        </p:blipFill>
        <p:spPr>
          <a:xfrm>
            <a:off x="2627280" y="1197000"/>
            <a:ext cx="3888000" cy="5472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826920" y="189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СИНДРОМ МУЛТИПЛЕ ОРГАНСКЕ ДИСФУНКЦИЈЕ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(МО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2600" spc="-1" strike="noStrike">
                <a:solidFill>
                  <a:srgbClr val="ffff00"/>
                </a:solidFill>
                <a:latin typeface="Times New Roman"/>
              </a:rPr>
              <a:t>СИНДРОМ МУЛТИОРГАНСКЕ ДИСФУНКЦИЈЕ (МОДС)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је прогресивни поремећај функције два или више органских систем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Најчешћи узроци МОДС-а су: сепса и септички шок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Централни патофизиолошки догађај у МОДС-у је покрет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ffff00"/>
                </a:solidFill>
                <a:latin typeface="Times New Roman"/>
              </a:rPr>
              <a:t>неконтролисаног системског инфламаторног одговора, као реакција организма на стрес </a:t>
            </a:r>
            <a:r>
              <a:rPr b="0" lang="sr-CS" sz="2600" spc="-1" strike="noStrike">
                <a:solidFill>
                  <a:srgbClr val="ffff00"/>
                </a:solidFill>
                <a:latin typeface="Times New Roman"/>
              </a:rPr>
              <a:t>или инфекцију </a:t>
            </a:r>
            <a:r>
              <a:rPr b="1" lang="sr-Latn-CS" sz="2600" spc="-1" strike="noStrike">
                <a:solidFill>
                  <a:srgbClr val="ffff00"/>
                </a:solidFill>
                <a:latin typeface="Times New Roman"/>
              </a:rPr>
              <a:t>(СИРС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ОШТЕЋЕЊА ПОЈЕДИНИХ ОРГАНА У ШО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БУБРЕЗИ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акутна некроза тубула и акутна бубрежна инсуфицијенција са олигуријом, ануријом и поремећајем електролит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ПЛУЋА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осим у септичком шоку, касно подлежу хипоксијском оштећењу, због високог садржаја кисеоника у њима. Плућне промене у шоку (“шокна плућа”) су последица дифузног оштећења алвеола и њиховог колапса, са формирањем хијалиних мембрана и отежаном разменом гасова на алвеоло-капиларној мембрани – 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АКУТНИ РЕСПИРАТОРНИ ДИСТРЕС СИНДРОМ (АРДС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ЦНС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исхемијска енцефалопатија, од пролазне конфузије са потпуним опоравком код лакших случајева, до коме и опште мождане смрти код тежи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ОШТЕЋЕЊА ПОЈЕДИНИХ ОРГАНА У ШО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СРЦЕ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иокардн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ф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оди д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суфицијен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због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oк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e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рд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вeћ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х 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e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з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нe.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ућ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ф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т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ГИТ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“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у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ж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уц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схемиј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н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озa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њ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као пoследиц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дуже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тензивне вазоконстреикције у спланхично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рeг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ну.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 je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ста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в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з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нa м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 дeг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рa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, 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ентрилобуларна некро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хeп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ци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колико исх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ужe тр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НАДБУBРЕЖ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Ж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ЛEЗ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ог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а aкутнa 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рoч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т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je у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к ш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 инф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тр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по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ји 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з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н ДИК) </a:t>
            </a:r>
            <a:r>
              <a:rPr b="0" lang="sr-Latn-C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ех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aтa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потенз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поглик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ремећено стање све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РЕВЕРЗИБИЛНА ФАЗА ШОКА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ДИК (ДИСЕМИНОВАНА ИНТРАВАСКУЛАРНА КОАГУЛА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Фактори који покрећу ДИК у шоку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Оштећење ендотела хипоксијом и експресија ткивног фактора (TF), који веже циркулишуће факторе коагулације и активира и унутрашњи и спољашњи пут коагулаци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Појачана експресија TF под дејством IL-1 и TNF-а у СИРС-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Прокоагулантни ефекат ендотоксина у септичком шоку због појачане експресије ТF под дејством ендотоксин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IL-1 и TNF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алфа у СИРС-у инхибирају антикоагулантне компензаторне механизме (протеин Ц, протеин 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упна стопа смртности  30% - 50%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ртност према дефинисаним критеријуми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РС =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= 1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шка сепса = 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тични шок = 4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ffff"/>
                </a:solidFill>
                <a:latin typeface="Times New Roman"/>
              </a:rPr>
              <a:t>Типов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настала ван болничке средине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нвазивне широко распрострањене бактери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c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oli, Proteus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филокок, ентерок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настала у болничкој средин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где се дешава нарушавање природних имунских баријера – мултирезистентне болничке бактерије: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seudmonas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erratia, Acinetobacte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bolnički stafilokok i enterok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у имунодефицијент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спленектомија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V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агранулоци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у особа са имлантатим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залисци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овезаност између сепсе и СИРС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35080" y="1758960"/>
            <a:ext cx="4406760" cy="4635360"/>
          </a:xfrm>
          <a:prstGeom prst="ellipse">
            <a:avLst/>
          </a:prstGeom>
          <a:solidFill>
            <a:srgbClr val="ff00cc"/>
          </a:solidFill>
          <a:ln w="1260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673360" y="1911240"/>
            <a:ext cx="4330800" cy="4483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6330960" y="2216160"/>
            <a:ext cx="1434960" cy="14349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у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483240" y="3790800"/>
            <a:ext cx="1435320" cy="13845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коти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5416560" y="5187960"/>
            <a:ext cx="2730600" cy="151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анкреатити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879640" y="4008600"/>
            <a:ext cx="153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011560" y="4008600"/>
            <a:ext cx="133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ff"/>
                </a:solidFill>
                <a:latin typeface="Times New Roman"/>
              </a:rPr>
              <a:t>СИР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160" y="3976560"/>
            <a:ext cx="197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2521080" y="2216160"/>
            <a:ext cx="2349360" cy="3873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СЕП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1606680" y="1835280"/>
            <a:ext cx="2197080" cy="1968480"/>
          </a:xfrm>
          <a:prstGeom prst="ellipse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актериј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Times New Roman"/>
              </a:rPr>
              <a:t>СИМПТОМИ НА ОСНОВУ КОЈИХ СЕ ПОСТАВЉА СУМЊА НА СЕПСУ СУ: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Content Placeholder 2"/>
          <p:cNvSpPr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лабо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убитак апет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мпература и гроз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буњеност и поспано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еђ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ежано или убрзано дис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брзан срчани 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изак крвни притиса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мањено мокре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з наведене симптоме за дијагнозу сепсе је потребно да постоји могућа или доказана инфекција (пнеумонија, абдоминална инфекција, инфекција уринарног тракта, инфекција ране, итд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да се појаве неки од ових симптома, сепса је највероватнија дијагноза и неопходно је хитно послати пацијента у здравствену установу са јединицом интензивног лечењ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Клинички знац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хипне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хикард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њен тонус крвних суд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ска дисфун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Кожне промен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9" name="Picture 3" descr="4453-4482-12996-21147"/>
          <p:cNvPicPr/>
          <p:nvPr/>
        </p:nvPicPr>
        <p:blipFill>
          <a:blip r:embed="rId1"/>
          <a:stretch/>
        </p:blipFill>
        <p:spPr>
          <a:xfrm>
            <a:off x="1066680" y="1828800"/>
            <a:ext cx="6767640" cy="4419720"/>
          </a:xfrm>
          <a:prstGeom prst="rect">
            <a:avLst/>
          </a:prstGeom>
          <a:ln w="0">
            <a:noFill/>
          </a:ln>
        </p:spPr>
      </p:pic>
      <p:pic>
        <p:nvPicPr>
          <p:cNvPr id="250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Кожне промен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2" name="Picture 3" descr="sepsis"/>
          <p:cNvPicPr/>
          <p:nvPr/>
        </p:nvPicPr>
        <p:blipFill>
          <a:blip r:embed="rId1"/>
          <a:stretch/>
        </p:blipFill>
        <p:spPr>
          <a:xfrm>
            <a:off x="1104840" y="1752480"/>
            <a:ext cx="6743880" cy="4496040"/>
          </a:xfrm>
          <a:prstGeom prst="rect">
            <a:avLst/>
          </a:prstGeom>
          <a:ln w="0">
            <a:noFill/>
          </a:ln>
        </p:spPr>
      </p:pic>
      <p:pic>
        <p:nvPicPr>
          <p:cNvPr id="253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Клинички знаци септичног шок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пресија миокар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емећен тонус крвних суд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њена перфузија орг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авнотежа у отпуштању и потрошњи кисео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аболичка ацид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ТЕШКА СЕПС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ајан узрок морбидитета и морталитета у све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дећи узрок смртности у јединици интензивне нег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11. месту узрока смрт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ишње више од  750 000 случајева са тешком сепс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US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више од 500 болесника умире од сепсе дне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С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МРТНОСТ КОД ТЕШКЕ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61" name="Object 3"/>
          <p:cNvGraphicFramePr/>
          <p:nvPr/>
        </p:nvGraphicFramePr>
        <p:xfrm>
          <a:off x="1219320" y="1447920"/>
          <a:ext cx="79246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79246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Audio 1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Медијатори одговорни за сепсу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5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Одговор имуних ћелија на инфекцију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7" name="Picture 4" descr="sepsa"/>
          <p:cNvPicPr/>
          <p:nvPr/>
        </p:nvPicPr>
        <p:blipFill>
          <a:blip r:embed="rId1"/>
          <a:stretch/>
        </p:blipFill>
        <p:spPr>
          <a:xfrm>
            <a:off x="1219320" y="15238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268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Најчешћа места </a:t>
            </a:r>
            <a:r>
              <a:rPr b="0" lang="sr-CS" sz="3200" spc="-1" strike="noStrike">
                <a:solidFill>
                  <a:srgbClr val="00ffff"/>
                </a:solidFill>
                <a:latin typeface="Times New Roman"/>
              </a:rPr>
              <a:t>примарне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инфекциј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ПЛУЋ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umoniae, H.influenzae,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gionella, Chlamidia….gram negativni bacil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БДОМЕ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. coli, Bacteroides fragilis….gram neg. bacili, anaerobi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dida s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УРОГЕНИТАЛНИ ТРАК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. coli, Klebsiella sp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Enterobacter sp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teus sp….gram neg. bacili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Ent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ococcus s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ОЖ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ка ткив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pyogenes, S. aureus, Clostridium sp….gram neg. bacili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aure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ИНФИЦИРАНИ 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i.v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КАТЕТЕРИ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aureus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Про-инфламаторни медијатор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ктеријски ендотокс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NF-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Фактор активације тромбоцит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ферон-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стагланд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еукотри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зот окс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Анти-инфламматорни медијатори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G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теин 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Object 2"/>
          <p:cNvGraphicFramePr/>
          <p:nvPr/>
        </p:nvGraphicFramePr>
        <p:xfrm>
          <a:off x="380880" y="457200"/>
          <a:ext cx="85345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534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Audio 3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184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Механизми у сепси – индукују органску дисфункцију и инсуфицијенцију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1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733920" y="0"/>
            <a:ext cx="219708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4648320" y="533520"/>
            <a:ext cx="368280" cy="609480"/>
          </a:xfrm>
          <a:prstGeom prst="downArrow">
            <a:avLst>
              <a:gd name="adj1" fmla="val 50000"/>
              <a:gd name="adj2" fmla="val 82769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352680" y="1143000"/>
            <a:ext cx="31114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фламаторни медиј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2514600" y="1219320"/>
            <a:ext cx="825480" cy="380880"/>
          </a:xfrm>
          <a:prstGeom prst="leftArrow">
            <a:avLst>
              <a:gd name="adj1" fmla="val 50000"/>
              <a:gd name="adj2" fmla="val 10833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6400800" y="1219320"/>
            <a:ext cx="825480" cy="457200"/>
          </a:xfrm>
          <a:prstGeom prst="rightArrow">
            <a:avLst>
              <a:gd name="adj1" fmla="val 50000"/>
              <a:gd name="adj2" fmla="val 90301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7238880" y="1066680"/>
            <a:ext cx="190512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дотелијална 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62120" y="1143000"/>
            <a:ext cx="17398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зодилата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8001000" y="1828800"/>
            <a:ext cx="44460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10"/>
          <p:cNvSpPr/>
          <p:nvPr/>
        </p:nvSpPr>
        <p:spPr>
          <a:xfrm>
            <a:off x="5867280" y="1828800"/>
            <a:ext cx="44460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11"/>
          <p:cNvSpPr/>
          <p:nvPr/>
        </p:nvSpPr>
        <p:spPr>
          <a:xfrm>
            <a:off x="762120" y="1752480"/>
            <a:ext cx="444240" cy="457200"/>
          </a:xfrm>
          <a:prstGeom prst="downArrow">
            <a:avLst>
              <a:gd name="adj1" fmla="val 50000"/>
              <a:gd name="adj2" fmla="val 5147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0" y="2286000"/>
            <a:ext cx="182880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ипоте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952880" y="2286000"/>
            <a:ext cx="24386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зоконстри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7467480" y="2286000"/>
            <a:ext cx="167652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762120" y="2743200"/>
            <a:ext cx="444240" cy="457200"/>
          </a:xfrm>
          <a:prstGeom prst="downArrow">
            <a:avLst>
              <a:gd name="adj1" fmla="val 50000"/>
              <a:gd name="adj2" fmla="val 5147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5867280" y="2743200"/>
            <a:ext cx="444600" cy="457200"/>
          </a:xfrm>
          <a:prstGeom prst="downArrow">
            <a:avLst>
              <a:gd name="adj1" fmla="val 50000"/>
              <a:gd name="adj2" fmla="val 4896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8001000" y="2743200"/>
            <a:ext cx="457200" cy="457200"/>
          </a:xfrm>
          <a:prstGeom prst="downArrow">
            <a:avLst>
              <a:gd name="adj1" fmla="val 45731"/>
              <a:gd name="adj2" fmla="val 5153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609480" y="3200400"/>
            <a:ext cx="8369280" cy="44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лазак течности из капилара у интерстицију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19"/>
          <p:cNvSpPr/>
          <p:nvPr/>
        </p:nvSpPr>
        <p:spPr>
          <a:xfrm>
            <a:off x="4724280" y="5791320"/>
            <a:ext cx="457200" cy="4572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3505320" y="6324480"/>
            <a:ext cx="297180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ганска дисфун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21"/>
          <p:cNvSpPr/>
          <p:nvPr/>
        </p:nvSpPr>
        <p:spPr>
          <a:xfrm>
            <a:off x="3276720" y="1828800"/>
            <a:ext cx="44424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1828800" y="2286000"/>
            <a:ext cx="297180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омбоза капил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23"/>
          <p:cNvSpPr/>
          <p:nvPr/>
        </p:nvSpPr>
        <p:spPr>
          <a:xfrm>
            <a:off x="3200400" y="2743200"/>
            <a:ext cx="444600" cy="457200"/>
          </a:xfrm>
          <a:prstGeom prst="downArrow">
            <a:avLst>
              <a:gd name="adj1" fmla="val 50000"/>
              <a:gd name="adj2" fmla="val 51431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4648320" y="3733920"/>
            <a:ext cx="533160" cy="457200"/>
          </a:xfrm>
          <a:prstGeom prst="downArrow">
            <a:avLst>
              <a:gd name="adj1" fmla="val 41074"/>
              <a:gd name="adj2" fmla="val 5390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4191120" y="4267080"/>
            <a:ext cx="1371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хемиј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4648320" y="4800600"/>
            <a:ext cx="457200" cy="380880"/>
          </a:xfrm>
          <a:prstGeom prst="downArrow">
            <a:avLst>
              <a:gd name="adj1" fmla="val 50000"/>
              <a:gd name="adj2" fmla="val 4833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4038480" y="5257800"/>
            <a:ext cx="1676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Патогенеза вазодилатације у сепс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Губитак одговора на симпатикус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мањен број и осетљивост адренергичких рецептора, смањена трасдукција сигн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азодилататорни инфламаторни медијатор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Ендотоксин има директан вазодилататорни ефек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овећано стварање азот монок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Audio 6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Вазоактивни инфламаторни медијатор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зоактивни интестинални пептид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адикин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 активације тромбоци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агланд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иток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укотри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истам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ијагноз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линичка слика (температура, хипотензивна олигурија или анурија,тахипнеја или хиперпнеја, крварењ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Знаци респираторне алкалозе наговештавају шок који је реверзибил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аболичка ацидоза може указати на неповољан исхо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иохемијске анализе (PCT, CRP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коагулацион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ус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лектролит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еа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реатинин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естови функције јетре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асне анализ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КГ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адиографиј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кенер, магнетна резонанца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хокардиограм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лумбална пун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ултуре крви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ина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путум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репоруке иницијалне антимикробне терапије у синдрому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анболничке инфекц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) Суспектна инфекција уринарног тракта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II генерација цефалоспорина, хинолони, и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иперацилин, мезлоцилин или тикарцилин +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миногликози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) Друге инфекције III ген.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фалоспорина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ронидазол или тикарцилин клавулонска кис.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мпицилин-сулбактам или пиперацилин-тазоба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+ аминогликози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истрибуција патогених узрочник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негативне бактерије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-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позитивне бактери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микробни узрочниц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љив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репорука антимикробне терапије у синдрому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ничке инфекције код болесника без неутропен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фепим,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нерација цефалоспорина + метронидазол, или тикарцилин-клавулонска киселина или ампицилин-сулбактам или пиперацилин-тазобактам или имипенем,+ аминогликозиди код св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Хемодинамска потпора у септичном шоку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ристалоидни раствор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ежа смрзнута плазм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лбумин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екстр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импатомиметски амини (допамин, добутамин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тикостероид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ШЕСТ ХИТНИХ ПОСТУПАКА У ЛЕЧЕЊУ пацијената са постављеном сумњом на сепсу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дати кисеоник – висок про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узети крв за хемокултур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рименити антибиотик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започети надокнаду интраваскуларног волуме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верити ниво хемоглобина и лакта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атити „сатну“ диурез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Прогностички фактор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жина боле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 имуносупрес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суство ш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микробна бактерие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ипотер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Д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сеудомонас бактер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дида инфе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ff"/>
                </a:solidFill>
                <a:latin typeface="Times New Roman"/>
              </a:rPr>
              <a:t>Фактори вируленциј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негативне бактер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пополисахарид    ендотокс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ез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м позитивне бактер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зотокс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ихоична кисе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исахарид 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суларни полисахар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птидоглик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пстанца 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Audio 7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Патогенез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лазно место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ж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спираторн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астроинтестиналн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огенитал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имарно септично жариш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мфни чвор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нутрашња вен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ндокар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имарна бактери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астатска жариш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ж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ст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лућ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озак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етр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убрез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мфни чворов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екундарна бактери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ffff"/>
                </a:solidFill>
                <a:latin typeface="Times New Roman"/>
              </a:rPr>
              <a:t>ДЕФИНИЦИЈ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4876920"/>
          </a:xfrm>
          <a:prstGeom prst="rect">
            <a:avLst/>
          </a:prstGeom>
          <a:ln w="0">
            <a:noFill/>
          </a:ln>
        </p:spPr>
      </p:pic>
      <p:pic>
        <p:nvPicPr>
          <p:cNvPr id="170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је инфламаторни одговор који настаје због инвазије и размножавања инфективног узрочника у организму чове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актеријемија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суство и размножавање бактерија у кр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 бити пролазна и интермитент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тикемиј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системска болест изазвана ширење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рганизама и њихових токс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Audio 5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USER</dc:creator>
  <dc:description/>
  <dc:language>en-US</dc:language>
  <cp:lastModifiedBy>Biljana</cp:lastModifiedBy>
  <dcterms:modified xsi:type="dcterms:W3CDTF">2020-09-19T11:36:40Z</dcterms:modified>
  <cp:revision>77</cp:revision>
  <dc:subject/>
  <dc:title>Therapeutic Strategies in Sepsis</dc:title>
</cp:coreProperties>
</file>